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8FF-AD0B-455A-9774-9E8727AB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C73-4824-4266-8C1D-F10F04CF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A44-B365-4D5C-AAD5-8F087D6C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76E-5448-4AD5-B742-4FD8D5E2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84D-2BE9-4D82-96B3-095D76B6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F50-9102-456A-B8D2-AA0D17AD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C13-8AC6-4D01-A82A-6DB86604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455-D6F6-4E59-B32E-577B2660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7F2-8092-47B2-988D-6B527DFF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777-3006-4A51-987B-BB72983D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189-59B8-4C13-8EC8-9370CE0D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9A4-2ADA-412F-A7F2-EF32F14F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2a76"/>
            </a:gs>
            <a:gs pos="100000">
              <a:srgbClr val="4a1f5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ED40-C62F-4ACD-A7B2-DCA464788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900ec"/>
            </a:gs>
            <a:gs pos="100000">
              <a:srgbClr val="1300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60020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n lead, women ech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to Thee, O Lord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 I lift up my sou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my G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trust in Th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h, let me not be ashamed, let not m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emies triumph over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nto Thee, O L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900ec"/>
            </a:gs>
            <a:gs pos="100000">
              <a:srgbClr val="1300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380880"/>
            <a:ext cx="64767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membe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sins of my youth.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my G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trust in Th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h, let me not be ashamed, let not my enemies triumph over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900ec"/>
            </a:gs>
            <a:gs pos="100000">
              <a:srgbClr val="1300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8076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to Thee, O Lord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 I lift up my sou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my G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trust in Th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h, let me not be ashamed, let not my enemies triumph over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22:21:05Z</dcterms:created>
  <dc:creator>Peter Rivezzo</dc:creator>
  <dc:description/>
  <dc:language>en-US</dc:language>
  <cp:lastModifiedBy>Peter Rivezzo</cp:lastModifiedBy>
  <dcterms:modified xsi:type="dcterms:W3CDTF">2010-02-13T22:21:05Z</dcterms:modified>
  <cp:revision>1</cp:revision>
  <dc:subject/>
  <dc:title>Slide 1</dc:title>
</cp:coreProperties>
</file>